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BD3F-0C26-45D7-AAA0-6F1073CA9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B5C4-65D1-4DBB-81C4-CB03F2EC9BA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BAC0E-7679-43D0-BE6A-F0A3C2E19F7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1100-E4D0-4718-95AB-6D6D2FF4B4B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8F9C-56CF-49AD-8C1C-660CC123B89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13393-AE95-485E-A326-BEBB8D519D9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C306-B01E-444E-87A9-5EAE24014BD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BDE7-3FC3-44EC-80CC-AE86B09AFFE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7DBA2-9C6E-4DB6-982E-57FB633DCFC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4AD9A-AEC6-4082-B9EF-C016ABDE22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5D22-8045-4E96-A600-D06831D561D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6F5EAC-8B67-431E-924A-3B104FA6E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D92F-C9E9-4CE3-BE88-363367BBD48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37B2F5-9B0B-46A8-967A-B18AB0FC986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C8925-614A-436E-B3AF-19BB9B3B84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7F43E3-1C14-4923-9D3F-D894241C69E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50B25-4A23-4291-A68D-D36C478CD12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3FC7A-FBDA-49CF-9090-BE00569459B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2D99D-47B3-40A6-9B29-63712AD8B32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15E79-9936-49E3-82A9-0403AFECAC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D3C62D-581D-4533-AA30-B2CA81E4810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6CCEE-989D-4C5B-924F-E6BDACF7BB1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9CF7FF-4055-4339-A2C1-F57E9CB03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CC61-80F9-4B3D-A906-F3DF3744E97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F2457-21E9-4B35-B916-8AFD9D0C4F8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63A9E-33D2-4567-8D6E-BAAD10DC712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644C9-68E3-440B-B016-0D31EEF7C79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6FE65-88F0-448A-B8F7-3F29C5D135A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CF5E2-A00E-4806-A6D7-9B08ED8A15C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1EE28-FCC1-41C4-B553-DC8C2EFD789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9499E-0385-4045-81EA-DF7BC6882B1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452F3-D671-4B6E-8261-250E83A873C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16E180-1DC6-4285-8217-474B2EBB946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1743D-483E-405C-9D23-E84615560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BA87-A665-4F4B-8BD5-ABC5707C060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B4C99-AB07-4695-8C19-695F2C3B30C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ECA96-400E-4B46-8786-8693CF40133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B95CC-2612-455B-82CE-C60F1DCDBA1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8620E-CFBA-45B2-939B-1A2DCF87B1E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52A7B-C9D8-4EB8-931D-4C54418FEAE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5AFC-EADB-4561-9155-650C95EEDA9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C128-36A9-4F60-B70D-05FC0CCC6A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8FE83-98EC-4A66-A619-FBBBA26EED2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D3166-771F-4685-9428-BC322845947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B4B5-3285-49F0-B661-B322B98B24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692C-42D8-4C38-A85A-242CDFA284A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58E49-78B4-4B84-9598-B63E60DA41B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ED33-A0CF-4D6B-B32A-C078B44245E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3B20-5610-4755-B22E-7F1EE451D73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D1A4B-B250-479A-B67F-08DB777010D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BC3D4-2828-46F7-BAB0-4EDA5964042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E30033-6CE1-4132-AE57-5540CAB83A7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9C0591-9EE8-47C8-BE52-27DE2ED5061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4C402F-CFBE-4D54-A072-EAA095EDE17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9A3054-FD5D-4BA1-980B-38C0FE4765B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89F36C-A7C7-40AE-9EB2-54C2CB8817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3F02-72F4-4312-909E-2E018965F5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E3EAA9-9DE0-4289-9CA5-C2346C65C72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D9CEBE-8DB4-45B3-B3B7-81535751013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FA4DE3-E40B-4C97-9243-361B89613F4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BC84C3-3490-40F4-A64C-8BDDA3981D3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DF15A3-8413-46AC-806F-EC2D15F7DEA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D8515B-CF65-4EA2-A818-62A4FF99FF8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49C387-ADA8-4C9B-A3DD-70116941C26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09298D-6634-428D-B79A-02792FE09C3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B2A58-F65A-421B-9F3C-4724EBEE04E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7E875-CD7F-40A7-BE99-0E6CDFCB30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6FD7-8DA7-49AD-9E58-F2863F47750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6FC8F-7164-49F3-8E9B-42B0A09B585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F1B16-D580-48C3-92F1-637ED833191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7AD4C2-BD5C-4BC6-9A1C-DCA44D10962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CDE3A-22DC-4B27-80A5-3A9A42174AC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12E56-CC17-485E-A676-712CFE83ECD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3AEE3-27B8-4AED-9244-8F33DAEE92D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66E94-D43C-40E1-8134-390B1F5B8C4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461BF-E022-4657-A860-F98A4694824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F9586-D4F4-4D73-B2A4-6372EEA0611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130E-D47D-4A64-884C-15EC131911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A537-CCCF-45D5-BDDB-D01FD5448EE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E1D6-DEF3-47D1-903E-43905D205E0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D355-47BD-49E4-81C8-256C0AF9E50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07F50-E10E-4B6E-B712-FFE473A563E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1C75F-ACAC-49C7-8A58-6D560EBB08A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D6BD2-579D-4BF8-9F45-DE8DCC92FA1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FCA78-3292-435A-844E-DF979A72596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40A47-E59C-4D7A-B9AF-D20E6EED951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5A644-794F-43C9-9E4B-28077B695A4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C57FF-6DAF-4ECF-99D9-7262E6AD627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0365F-9D6B-4E41-B54A-9AE4DE1FE1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3EE2C-9F9F-44AC-99FA-AFC8AB69798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EC41-CD89-4FDA-8C67-4DA6FA60392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B2ADA6-B016-4F4E-9362-B985AE596AB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03C84A-4FB4-4C6F-BD29-207BBA168B3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35175A-AD35-46A9-96DF-7234BFA82CF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3F0915-AF17-46EC-9B66-44DB853DDEE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4D06B0-952F-46F0-B60D-5038E5D605C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9C22C2-5473-496D-921B-936BB51BF0F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A94F84-0BB8-4D3C-A431-AA0A2BE34F6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8D21C1-4E64-4DF1-8044-F391569C337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D16893-412E-4B1C-8F92-D5275650D4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F4E8-490A-4CE4-AD68-2702BE5A3A8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D0BEF0-A9C4-41E0-95D7-D0B40E12F8A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5720E1-2F65-4040-A983-DD7A26BDF6A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6D0AA-3B76-4987-8FA1-7E83B376E3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11DD-5474-4BF3-B81E-61944C51E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209C-AFB6-4870-AE6F-1CA7342ECC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7A4C-E056-4F0E-AB39-D65E3AC4AE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DAD4-900D-4194-9F8E-C567601C0C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E466-C6C8-432B-81D9-4272A7D36C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3B5E-2D2B-4214-97B6-3555E3182A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B61-3CC2-4C93-A635-7200EB5077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91D-BC1A-4674-B372-FBC6DF59C1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67B-E71A-4B0B-A2BC-8157FC9EA0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8F1-F391-45A9-AE95-F5EDF950C2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9EB-C989-48B1-8DC3-6E112F7190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C61C-787D-45C9-B75D-96210E4E9D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720-877F-43D5-B211-9B2A20014F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646-629D-41CB-8576-9D73BB5BD2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122-FE3C-4D1E-A179-AA8228F2BD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08B-8DB5-46A1-95D4-F24679326E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0B6-DB35-4D44-BA27-88818CAE8F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97C-0370-45F1-98D0-61917CD428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50F-E60B-43A4-A3B1-5643B11990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C0584-6A22-418C-8707-820AA32307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AEB3A-033B-404B-938A-C3017DF421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892A0-7BAD-45DF-A3A5-CAAAE0BE3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17AB-2FD2-49EF-88BD-E53FE10B52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E727B-38FA-46FA-802C-3D12910E29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4DB42-8980-4AB8-B1AC-9E0FB0E2C3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6A9DE-061E-45CE-A52B-5D201AEC17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3F824-274D-489B-AD65-617E78449B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E905A-2D52-4315-A754-E91A2E8E67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5D4B5-E52D-4663-A9C5-CAC44E11EF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8C70F-5B82-43AC-9860-A297597D61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7989A-19EE-46B4-BC71-963FC95814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9EE6A-2D41-4F04-852D-FC64AB95C8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A36FE-DCD2-44E4-A320-92586C951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6B94-3E4A-4DC8-9B50-27F43457F6A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F602A-9759-402A-B18B-CDBF84F5293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3628E-D2E8-4E55-A24D-55E69BF6EBF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892FC-5D63-4A74-A00E-7060B72F237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737BF-FAB8-4A4B-AD9F-F80F2FB51F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7B005-1A5D-460C-94CC-B4B63C5561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EECDF-B1EA-480D-8B6B-3E539692723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CA117-ECC1-498A-B9FE-1D8B7E9C6C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B37DE-BD09-4A5B-B891-3083A2A6BDF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D28A4-AA75-42F3-AB1F-9BC53BE771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35A10-32CF-496D-9E73-DC561B932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2969-0E94-4EF8-9ED7-325CB2BD5B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1EC9C-9C2C-42BA-87D8-7FB08D89E6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BD85-425B-4B86-B4BC-6CD81936BD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AE71-D62B-45C6-B058-ABBFC4D7728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53FE-66A9-420C-B267-B5C38A2FB7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7DD4-BC78-4FB7-997B-83AAFFA4CC4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0985-7016-49B7-AFF4-6F8F2E4281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78D6-641E-493A-AF0E-4F5E749AAE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1854-3644-4CB3-BF2F-8685D4D22E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4AA1-9666-49CE-9230-880D937286E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2AAD-D7BC-459D-A0D0-334200587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149E-5DEC-48A3-A674-45163DBEC2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BCC2-C607-4D56-A62D-B307E9F2E5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778F-10C0-4DBA-90EB-1D68CFB959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24F1-CA27-4B7A-B9F2-78E065A18F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6B42D-2D0C-4836-AFCC-DF6235822A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655F9-8604-4B49-BBE2-906812138F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86A2D2-023F-4B00-B3D7-4BA10404D5B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CDCF97-3F88-4551-90F6-AC60BFB562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D28632-BCC7-4D9C-9DE0-8E97434E73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CFBED-32A5-4BA6-948F-0346C5CD5F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CE826-E761-4D72-87AC-1B2236151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8372-0A84-4190-9BD0-2F5872B31D9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C9EF2-AFEF-48D8-B073-2EE8A73918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BD142-1250-4FC4-B4FB-8E3D77A12FC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3ECCE-CD10-4423-8222-FCD26F2595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DF26C2-CBE8-413A-A519-9824420A56F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6F2348-6C2E-44B5-9250-B629B694C6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443B6-00E1-4297-8824-F93A9CD13E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45131-080E-485C-B564-BFA80456F4E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6C198-2DA2-414F-B60D-C29DD71780B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189DB-8C87-4374-A2A4-6C13583A94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A788C-0701-4D4D-B5A0-C732DFA6B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8AD2-1BBB-4F58-815F-5AC819333C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8841C-6797-4E16-9458-BB88CFDD200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88582-5043-4758-9F5C-9FD3D3A9120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6DE31-F2D1-4879-B309-B09F99A0D99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8F88F-38FF-4AF4-8972-1AB1E65D2AF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D9682-48C9-404F-A24D-14760B4D367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EFEF6-DCB2-4F9D-AFDC-F4C7BFBCF9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F0C9F-865B-47C5-95BF-09445A59D99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6C19-B8C0-4652-86E8-BBADE7CBE6A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FEFC-3A01-4DF1-9828-6539CF35471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5A72-4221-442F-9C93-D42F4E38F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4784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890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458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8200" indent="-219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65240" indent="-2016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4760" indent="-1825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4760" indent="-1825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4760" indent="-1825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4280" y="-1800"/>
            <a:ext cx="3524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DD2F-F823-4E5D-875A-4DF432CE4E69}" type="slidenum"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10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E170-7844-4F12-9DBE-54ECCFBFFE79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11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430A-F932-4541-916A-217EF22F84D9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12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12CE-F01B-48AF-A8AB-1E03BD380CA2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3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D756-D118-4BD8-B7DA-E2B101802314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14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B782-3FB0-4479-AC7A-6DE53B0967DE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5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E08B-8410-4E39-B759-138450971444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6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DAA2-D2C4-448A-8A76-E489F822E3C2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46520" y="624852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A77D-6F0F-4C7E-8101-17083548C8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 rot="10800000">
            <a:off x="5408280" y="3809880"/>
            <a:ext cx="374796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2"/>
          <p:cNvSpPr/>
          <p:nvPr/>
        </p:nvSpPr>
        <p:spPr>
          <a:xfrm rot="10800000">
            <a:off x="5409720" y="3895560"/>
            <a:ext cx="3746520" cy="1922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3"/>
          <p:cNvSpPr/>
          <p:nvPr/>
        </p:nvSpPr>
        <p:spPr>
          <a:xfrm rot="10800000">
            <a:off x="5409720" y="4164120"/>
            <a:ext cx="1978200" cy="17280"/>
          </a:xfrm>
          <a:prstGeom prst="rect">
            <a:avLst/>
          </a:prstGeom>
          <a:solidFill>
            <a:srgbClr val="43808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5408640" y="3962520"/>
            <a:ext cx="3063960" cy="27000"/>
          </a:xfrm>
          <a:prstGeom prst="roundRect">
            <a:avLst>
              <a:gd name="adj" fmla="val 1665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7375680" y="4060800"/>
            <a:ext cx="1600200" cy="36360"/>
          </a:xfrm>
          <a:prstGeom prst="roundRect">
            <a:avLst>
              <a:gd name="adj" fmla="val 16662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3648240"/>
            <a:ext cx="9156600" cy="2444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3675240"/>
            <a:ext cx="9156600" cy="139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8"/>
          <p:cNvSpPr/>
          <p:nvPr/>
        </p:nvSpPr>
        <p:spPr>
          <a:xfrm rot="10800000">
            <a:off x="6413400" y="3641760"/>
            <a:ext cx="2743200" cy="249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0"/>
            <a:ext cx="9156600" cy="37004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387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3898800"/>
            <a:ext cx="4952880" cy="295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marL="2376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1" marL="23760" indent="-23760">
              <a:spcBef>
                <a:spcPts val="300"/>
              </a:spcBef>
              <a:buClr>
                <a:srgbClr val="438086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2" marL="23760" indent="-23760">
              <a:spcBef>
                <a:spcPts val="300"/>
              </a:spcBef>
              <a:buClr>
                <a:srgbClr val="53548a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3" marL="23760" indent="-23760">
              <a:spcBef>
                <a:spcPts val="300"/>
              </a:spcBef>
              <a:buClr>
                <a:srgbClr val="53548a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4" marL="23760" indent="-23760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5" marL="23760" indent="-23760">
              <a:spcBef>
                <a:spcPts val="300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6" marL="23760" indent="-23760">
              <a:spcBef>
                <a:spcPts val="300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724600" y="-1800"/>
            <a:ext cx="3538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EBA7-8B4B-4C28-9AC0-AA10521C1E94}" type="slidenum"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99"/>
            </a:gs>
            <a:gs pos="100000">
              <a:srgbClr val="cc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D2AB-32D4-4D05-B8DD-F34F161710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27F9-330B-4DFB-82C9-8C33D928FBB8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6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400E-4F3A-46DD-BD0E-CB0804754856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7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9874-0DC5-40CE-B635-50654BBA5A1A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8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1822-6D23-40E4-BD39-EB79DA547A92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BC76-3B67-4BB5-83D9-4F65760CDF75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1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ell Ringer: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224784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890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How do you believe Ancient Egyptians were able to meet the Ancient India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8594640" y="-14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6D46-9AD4-4AFD-89AD-F695CEE8EA0D}" type="slidenum"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Reincar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The rebirth of the soul in the body of another living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2440" tIns="50760" bIns="50760" anchor="ctr">
            <a:noAutofit/>
          </a:bodyPr>
          <a:p>
            <a:pPr marL="414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old"/>
              </a:rPr>
              <a:t>Word Splash…create on left side of Interactive Notebook.</a:t>
            </a:r>
            <a:endParaRPr b="0" lang="en-US" sz="4000" spc="-1" strike="noStrike">
              <a:solidFill>
                <a:srgbClr val="0033cc"/>
              </a:solidFill>
              <a:latin typeface="Arial Bold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666880"/>
                <a:gridCol w="2819520"/>
              </a:tblGrid>
              <a:tr h="2265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Write the word you are def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efine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Write a sentence using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raw a picture to help you remember the wor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1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OC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224784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890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G 5: Word Splas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90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g 6: Vocab c-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8594640" y="-14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F725-6AD1-4701-B976-22F15A3EDF50}" type="slidenum"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1"/>
          <p:cNvSpPr/>
          <p:nvPr/>
        </p:nvSpPr>
        <p:spPr>
          <a:xfrm>
            <a:off x="0" y="366840"/>
            <a:ext cx="9156600" cy="8388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Rectangle 2"/>
          <p:cNvSpPr/>
          <p:nvPr/>
        </p:nvSpPr>
        <p:spPr>
          <a:xfrm>
            <a:off x="0" y="0"/>
            <a:ext cx="91566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0" y="307800"/>
            <a:ext cx="91566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Rectangle 4"/>
          <p:cNvSpPr/>
          <p:nvPr/>
        </p:nvSpPr>
        <p:spPr>
          <a:xfrm rot="10800000">
            <a:off x="5408280" y="356760"/>
            <a:ext cx="3747960" cy="93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Rectangle 5"/>
          <p:cNvSpPr/>
          <p:nvPr/>
        </p:nvSpPr>
        <p:spPr>
          <a:xfrm rot="10800000">
            <a:off x="5409720" y="438840"/>
            <a:ext cx="3746520" cy="1796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5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AutoShape 7"/>
          <p:cNvSpPr/>
          <p:nvPr/>
        </p:nvSpPr>
        <p:spPr>
          <a:xfrm>
            <a:off x="7372440" y="587520"/>
            <a:ext cx="1600200" cy="378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9083520" y="-1440"/>
            <a:ext cx="7164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9043920" y="-1440"/>
            <a:ext cx="3960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Rectangle 10"/>
          <p:cNvSpPr/>
          <p:nvPr/>
        </p:nvSpPr>
        <p:spPr>
          <a:xfrm>
            <a:off x="8974080" y="-1440"/>
            <a:ext cx="41400" cy="6206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Rectangle 11"/>
          <p:cNvSpPr/>
          <p:nvPr/>
        </p:nvSpPr>
        <p:spPr>
          <a:xfrm>
            <a:off x="8915400" y="0"/>
            <a:ext cx="66600" cy="58428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Trebuchet MS"/>
              </a:rPr>
              <a:t>Subcontin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268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800"/>
                </a:solidFill>
                <a:latin typeface="Georgia"/>
              </a:rPr>
              <a:t>A large landmass that is smaller than a contin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1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813120" cy="43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"/>
          <p:cNvSpPr/>
          <p:nvPr/>
        </p:nvSpPr>
        <p:spPr>
          <a:xfrm>
            <a:off x="0" y="366840"/>
            <a:ext cx="9156600" cy="8388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0" y="0"/>
            <a:ext cx="91566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0" y="307800"/>
            <a:ext cx="91566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Rectangle 4"/>
          <p:cNvSpPr/>
          <p:nvPr/>
        </p:nvSpPr>
        <p:spPr>
          <a:xfrm rot="10800000">
            <a:off x="5408280" y="356760"/>
            <a:ext cx="3747960" cy="93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5"/>
          <p:cNvSpPr/>
          <p:nvPr/>
        </p:nvSpPr>
        <p:spPr>
          <a:xfrm rot="10800000">
            <a:off x="5409720" y="438840"/>
            <a:ext cx="3746520" cy="1796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AutoShape 6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5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AutoShape 7"/>
          <p:cNvSpPr/>
          <p:nvPr/>
        </p:nvSpPr>
        <p:spPr>
          <a:xfrm>
            <a:off x="7372440" y="587520"/>
            <a:ext cx="1600200" cy="378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9083520" y="-1440"/>
            <a:ext cx="7164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9043920" y="-1440"/>
            <a:ext cx="3960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8974080" y="-1440"/>
            <a:ext cx="41400" cy="6206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11"/>
          <p:cNvSpPr/>
          <p:nvPr/>
        </p:nvSpPr>
        <p:spPr>
          <a:xfrm>
            <a:off x="8915400" y="0"/>
            <a:ext cx="66600" cy="58428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d99"/>
                </a:solidFill>
                <a:latin typeface="Trebuchet MS"/>
              </a:rPr>
              <a:t>Monso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268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Georgia"/>
              </a:rPr>
              <a:t>Seasonal wind patterns that cause wet and dry seasons (combination of drought-flood-hurrican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6" name="Picture 14" descr=""/>
          <p:cNvPicPr/>
          <p:nvPr/>
        </p:nvPicPr>
        <p:blipFill>
          <a:blip r:embed="rId1"/>
          <a:stretch/>
        </p:blipFill>
        <p:spPr>
          <a:xfrm>
            <a:off x="4952880" y="1990800"/>
            <a:ext cx="3657600" cy="45687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" descr=""/>
          <p:cNvPicPr/>
          <p:nvPr/>
        </p:nvPicPr>
        <p:blipFill>
          <a:blip r:embed="rId2"/>
          <a:stretch/>
        </p:blipFill>
        <p:spPr>
          <a:xfrm>
            <a:off x="495360" y="2286000"/>
            <a:ext cx="3962520" cy="2286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6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4038480" cy="25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" descr=""/>
          <p:cNvPicPr/>
          <p:nvPr/>
        </p:nvPicPr>
        <p:blipFill>
          <a:blip r:embed="rId1"/>
          <a:stretch/>
        </p:blipFill>
        <p:spPr>
          <a:xfrm>
            <a:off x="1714680" y="254016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Himalayas</a:t>
            </a:r>
            <a:br>
              <a:rPr sz="4400"/>
            </a:b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he world’s highest mountain range, forming the northern border of the Indian subcont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1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562360" cy="417204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Migrate</a:t>
            </a:r>
            <a:br>
              <a:rPr sz="4400"/>
            </a:b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o move from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"/>
          <p:cNvSpPr/>
          <p:nvPr/>
        </p:nvSpPr>
        <p:spPr>
          <a:xfrm>
            <a:off x="0" y="366840"/>
            <a:ext cx="9156600" cy="8388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0" y="0"/>
            <a:ext cx="91566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0" y="307800"/>
            <a:ext cx="91566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4"/>
          <p:cNvSpPr/>
          <p:nvPr/>
        </p:nvSpPr>
        <p:spPr>
          <a:xfrm rot="10800000">
            <a:off x="5408280" y="356760"/>
            <a:ext cx="3747960" cy="93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5"/>
          <p:cNvSpPr/>
          <p:nvPr/>
        </p:nvSpPr>
        <p:spPr>
          <a:xfrm rot="10800000">
            <a:off x="5409720" y="438840"/>
            <a:ext cx="3746520" cy="1796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AutoShape 6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5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7372440" y="587520"/>
            <a:ext cx="1600200" cy="378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9083520" y="-1440"/>
            <a:ext cx="7164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9043920" y="-1440"/>
            <a:ext cx="3960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0"/>
          <p:cNvSpPr/>
          <p:nvPr/>
        </p:nvSpPr>
        <p:spPr>
          <a:xfrm>
            <a:off x="8974080" y="-1440"/>
            <a:ext cx="41400" cy="6206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8915400" y="0"/>
            <a:ext cx="66600" cy="58428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cc"/>
                </a:solidFill>
                <a:latin typeface="Trebuchet MS"/>
              </a:rPr>
              <a:t>Caste System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3581280" cy="579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268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Georgia"/>
              </a:rPr>
              <a:t>Divided Indian society into groups based on a person’s birth, wealth, or occup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6" name="Picture 14" descr=""/>
          <p:cNvPicPr/>
          <p:nvPr/>
        </p:nvPicPr>
        <p:blipFill>
          <a:blip r:embed="rId1"/>
          <a:stretch/>
        </p:blipFill>
        <p:spPr>
          <a:xfrm>
            <a:off x="3276720" y="684360"/>
            <a:ext cx="5657760" cy="58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1"/>
          <p:cNvSpPr/>
          <p:nvPr/>
        </p:nvSpPr>
        <p:spPr>
          <a:xfrm>
            <a:off x="0" y="366840"/>
            <a:ext cx="9156600" cy="8388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0"/>
            <a:ext cx="91566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0" y="307800"/>
            <a:ext cx="91566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Rectangle 4"/>
          <p:cNvSpPr/>
          <p:nvPr/>
        </p:nvSpPr>
        <p:spPr>
          <a:xfrm rot="10800000">
            <a:off x="5408280" y="356760"/>
            <a:ext cx="3747960" cy="93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Rectangle 5"/>
          <p:cNvSpPr/>
          <p:nvPr/>
        </p:nvSpPr>
        <p:spPr>
          <a:xfrm rot="10800000">
            <a:off x="5409720" y="438840"/>
            <a:ext cx="3746520" cy="1796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AutoShape 6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5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AutoShape 7"/>
          <p:cNvSpPr/>
          <p:nvPr/>
        </p:nvSpPr>
        <p:spPr>
          <a:xfrm>
            <a:off x="7372440" y="587520"/>
            <a:ext cx="1600200" cy="378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9083520" y="-1440"/>
            <a:ext cx="7164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9043920" y="-1440"/>
            <a:ext cx="3960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Rectangle 10"/>
          <p:cNvSpPr/>
          <p:nvPr/>
        </p:nvSpPr>
        <p:spPr>
          <a:xfrm>
            <a:off x="8974080" y="-1440"/>
            <a:ext cx="41400" cy="6206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Rectangle 11"/>
          <p:cNvSpPr/>
          <p:nvPr/>
        </p:nvSpPr>
        <p:spPr>
          <a:xfrm>
            <a:off x="8915400" y="0"/>
            <a:ext cx="66600" cy="58428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cc"/>
                </a:solidFill>
                <a:latin typeface="Trebuchet MS"/>
              </a:rPr>
              <a:t>Hinduism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268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Georgia"/>
              </a:rPr>
              <a:t>The largest religion in India today. 1</a:t>
            </a:r>
            <a:r>
              <a:rPr b="0" lang="en-US" sz="2800" spc="-1" strike="noStrike" baseline="30000">
                <a:solidFill>
                  <a:srgbClr val="ff2712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ff2712"/>
                </a:solidFill>
                <a:latin typeface="Georgia"/>
              </a:rPr>
              <a:t> religion in India. Focus on 4 Noble Truths, Karma, and Reincarn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0" name="Picture 14" descr=""/>
          <p:cNvPicPr/>
          <p:nvPr/>
        </p:nvPicPr>
        <p:blipFill>
          <a:blip r:embed="rId1"/>
          <a:stretch/>
        </p:blipFill>
        <p:spPr>
          <a:xfrm>
            <a:off x="4038480" y="2133720"/>
            <a:ext cx="4705560" cy="34480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5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Ava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A representation of a Hindu god or goddess in human or anim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n</dc:creator>
  <dc:description/>
  <cp:keywords/>
  <dc:language>en-US</dc:language>
  <cp:lastModifiedBy>Tyler Daughtry</cp:lastModifiedBy>
  <dcterms:modified xsi:type="dcterms:W3CDTF">2013-10-28T15:08:40Z</dcterms:modified>
  <cp:revision>4</cp:revision>
  <dc:subject/>
  <dc:title>Unit 10 India Visual Vocabulary</dc:title>
</cp:coreProperties>
</file>